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3FA7-D9FF-4B3B-9C74-3CDAB4420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B6F3-7AF7-4E6D-B50C-DB7C890E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8BF6-534E-4EB5-B367-E4182FB12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F6C9-4F3F-4FE1-8473-20AC0804E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8990-582A-4A65-A20E-83CCF7451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3692-2F3F-446E-BF26-77951692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9368-069E-41E3-9E3F-92D95371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203F-B5FA-4778-8B56-CFB6709D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4F02-F631-4172-8004-F90D2CC5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523F-CFFD-4B95-805D-3A1AAB8D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D826-29B9-4F4E-B3F6-D63FAFC2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19B4-7A78-4727-9F85-1D28312B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BC43-0EDF-4259-9B0E-D45CDE55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23B0-3C67-4C4A-93BE-745D66C0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735B-960E-4655-B185-54D494E6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93B9-A466-42C8-8FC1-79AFBF120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0225-E9D8-48F8-8D73-C9F8C876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1219-A7BE-4A7C-B3A9-B8ED18F9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FD3D-7092-4E2C-9591-4D29F3C4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D427-4D65-4FA3-8B0F-7D07A340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FF8A-93D9-43A3-BA77-DAC60FEC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AEE4-640F-48EA-824E-CE526209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505D-F509-47EE-B350-88BAE9E3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FD62-28E9-47FA-B54C-FFA53F71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5D80-1BEB-48CB-AC88-0874E6604FBB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77C8-5D39-4058-842C-8044E0FC7667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cognizing Emergencie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Kiah Buc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990720"/>
            <a:ext cx="8001000" cy="91440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ffffff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ea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3810240"/>
          </a:xfrm>
          <a:prstGeom prst="rect">
            <a:avLst/>
          </a:prstGeom>
          <a:noFill/>
          <a:ln w="0">
            <a:noFill/>
          </a:ln>
          <a:effectLst>
            <a:outerShdw dist="154410" dir="4828307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unusual crash or sudden lou</a:t>
            </a:r>
            <a:r>
              <a:rPr b="0" lang="en-US" sz="3200" spc="-1" strike="noStrike">
                <a:solidFill>
                  <a:srgbClr val="ffffff"/>
                </a:solidFill>
                <a:latin typeface="ヒラギノ角ゴ Pro W3"/>
              </a:rPr>
              <a:t>d noi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ヒラギノ角ゴ Pro W3"/>
              </a:rPr>
              <a:t>Screaming or people calling for hel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ヒラギノ角ゴ Pro W3"/>
              </a:rPr>
              <a:t>Unearthly s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905120" y="533520"/>
            <a:ext cx="167616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52480" y="1219320"/>
            <a:ext cx="1409760" cy="761760"/>
          </a:xfrm>
          <a:prstGeom prst="rect">
            <a:avLst/>
          </a:prstGeom>
          <a:noFill/>
          <a:ln w="0">
            <a:noFill/>
          </a:ln>
          <a:effectLst>
            <a:outerShdw dist="177939" dir="20518097" blurRad="0" rotWithShape="0">
              <a:srgbClr val="808080">
                <a:alpha val="67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  <a:effectLst>
            <a:outerShdw dist="50904" dir="19382944" blurRad="0" rotWithShape="0">
              <a:srgbClr val="808080">
                <a:alpha val="62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8ac"/>
                </a:solidFill>
                <a:latin typeface="Arial"/>
              </a:rPr>
              <a:t>Something out of pla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ike a flipped c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dd liquid that is spi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ken gla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80720" y="1066680"/>
            <a:ext cx="3505320" cy="914400"/>
          </a:xfrm>
          <a:prstGeom prst="rect">
            <a:avLst/>
          </a:prstGeom>
          <a:noFill/>
          <a:ln w="0">
            <a:noFill/>
          </a:ln>
          <a:effectLst>
            <a:outerShdw dist="126828" dir="2941695" blurRad="0" rotWithShape="0">
              <a:srgbClr val="808080">
                <a:alpha val="67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mel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  <a:effectLst>
            <a:outerShdw dist="211927" dir="6419294" blurRad="0" rotWithShape="0">
              <a:srgbClr val="808080">
                <a:alpha val="67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usually strong sm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on-recognizable sm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lo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715000" y="990720"/>
            <a:ext cx="1981080" cy="3124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2:53:40Z</dcterms:created>
  <dc:creator>Kraybill Campus LMS</dc:creator>
  <dc:description/>
  <dc:language>en-US</dc:language>
  <cp:lastModifiedBy>Kraybill Campus LMS</cp:lastModifiedBy>
  <dcterms:modified xsi:type="dcterms:W3CDTF">2011-05-26T16:08:02Z</dcterms:modified>
  <cp:revision>12</cp:revision>
  <dc:subject/>
  <dc:title>PowerPoint Presentation</dc:title>
</cp:coreProperties>
</file>